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67A29-3656-4833-90D4-6C13BAA3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00836-B496-4875-BE7A-95F30221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3927-5E4D-4587-809E-D1B14DED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4610-4BC3-4A44-AB59-B9ABE2D1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96C1-1CCE-4E14-815A-8C78F003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C12C-6AAB-433E-A72A-B5FF2418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14B6-EB94-4AB1-90F3-5FF4ED4F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5F12-7FA4-435B-8BD0-A4C757F2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EC88-9A1F-4A06-A7A6-C964086E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6C28-033E-4E68-8AB9-D38200DC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0B69-3C76-4504-BB68-9549D99A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DEF51-4882-42D1-9F87-446EEA42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04AB-91CC-40CE-8BA5-2CC72D85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2852-213A-401D-99A5-FBB5D4F2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AC06-CFB7-4121-8F14-B2752456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8696-77EB-4BBD-B02B-0FCDBD38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2FA6-786B-4BE5-AAA6-332C0D09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891D1-784C-4F8B-B518-B6772DE8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603F-EE8B-4A2B-BD94-AA3C1744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7F3E-2A6B-4AB9-9A27-E89C5D1A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91E5-37BF-4DD1-9343-5D6BFB12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5EDF0-6C7B-499B-88FE-AC07E4A3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0D872-53BC-44CC-9FBE-E39FC510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ED68-2828-4BF4-A59F-C66C817F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52E0-42CC-4D3D-A050-3BA788927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F6F4-3C11-4071-AF57-AE894FC8E1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Me llamo ____________ Clase 7 IL</a:t>
            </a:r>
            <a:br>
              <a:rPr sz="3200"/>
            </a:b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a fecha es el 6 de junio del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280" y="13712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670320" indent="-670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oposito # 90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omo repasamos los P.O.D y el preterito para el examen Unidad 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0320" indent="-670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0320" indent="-670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ga los siguientes verbos en el PRETER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0320" indent="-6703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o bu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0320" indent="-6703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o p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0320" indent="-6703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quil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o 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0320" indent="-6703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o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0320" indent="-6703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c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o take 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0320" indent="-6703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lev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o w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0320" indent="-6703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c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o look f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0320" indent="-6703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leg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o arr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0320" indent="-6703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o p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6320" y="1066680"/>
          <a:ext cx="8991360" cy="4254480"/>
        </p:xfrm>
        <a:graphic>
          <a:graphicData uri="http://schemas.openxmlformats.org/drawingml/2006/table">
            <a:tbl>
              <a:tblPr/>
              <a:tblGrid>
                <a:gridCol w="1357200"/>
                <a:gridCol w="1639800"/>
                <a:gridCol w="1498680"/>
                <a:gridCol w="1498680"/>
                <a:gridCol w="1498680"/>
                <a:gridCol w="1498320"/>
              </a:tblGrid>
              <a:tr h="123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) Comprar </a:t>
                      </a:r>
                      <a:r>
                        <a:rPr b="0" i="1" lang="en-US" sz="2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(to buy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) Pag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(to pay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) Alquilar </a:t>
                      </a:r>
                      <a:r>
                        <a:rPr b="0" i="1" lang="en-US" sz="2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(to ren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4"/>
          <p:cNvSpPr/>
          <p:nvPr/>
        </p:nvSpPr>
        <p:spPr>
          <a:xfrm>
            <a:off x="763560" y="0"/>
            <a:ext cx="8151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C Futura Casual"/>
              </a:rPr>
              <a:t>Repaso de la Actividad 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76320" y="1295280"/>
          <a:ext cx="8991360" cy="4256280"/>
        </p:xfrm>
        <a:graphic>
          <a:graphicData uri="http://schemas.openxmlformats.org/drawingml/2006/table">
            <a:tbl>
              <a:tblPr/>
              <a:tblGrid>
                <a:gridCol w="1295280"/>
                <a:gridCol w="1371600"/>
                <a:gridCol w="1600200"/>
                <a:gridCol w="1727280"/>
                <a:gridCol w="1498680"/>
                <a:gridCol w="1498320"/>
              </a:tblGrid>
              <a:tr h="123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) Us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to us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) Sa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to take ou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6) Llevar </a:t>
                      </a:r>
                      <a:r>
                        <a:rPr b="0" i="1" lang="en-US" sz="2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to wea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4"/>
          <p:cNvSpPr/>
          <p:nvPr/>
        </p:nvSpPr>
        <p:spPr>
          <a:xfrm>
            <a:off x="609480" y="152280"/>
            <a:ext cx="8151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C Futura Casual"/>
              </a:rPr>
              <a:t>Repaso de la Actividad 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52280" y="1455840"/>
          <a:ext cx="8991720" cy="4048200"/>
        </p:xfrm>
        <a:graphic>
          <a:graphicData uri="http://schemas.openxmlformats.org/drawingml/2006/table">
            <a:tbl>
              <a:tblPr/>
              <a:tblGrid>
                <a:gridCol w="1498680"/>
                <a:gridCol w="1498680"/>
                <a:gridCol w="1498680"/>
                <a:gridCol w="1498320"/>
                <a:gridCol w="1498680"/>
                <a:gridCol w="1498680"/>
              </a:tblGrid>
              <a:tr h="83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) Buscar</a:t>
                      </a:r>
                      <a:r>
                        <a:rPr b="0" i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to search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) Llega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to arriv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) Rez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to pray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4"/>
          <p:cNvSpPr/>
          <p:nvPr/>
        </p:nvSpPr>
        <p:spPr>
          <a:xfrm>
            <a:off x="609480" y="152280"/>
            <a:ext cx="8151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C Futura Casual"/>
              </a:rPr>
              <a:t>Repaso de la Actividad 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Ejercicio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a tarde en la play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40-1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141 (1-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1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67-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685800" y="35053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Tarea # 90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00:45:20Z</dcterms:created>
  <dc:creator>Helen Zumaeta</dc:creator>
  <dc:description/>
  <dc:language>en-US</dc:language>
  <cp:lastModifiedBy>Helen Zumaeta</cp:lastModifiedBy>
  <cp:lastPrinted>2013-06-05T14:22:12Z</cp:lastPrinted>
  <dcterms:modified xsi:type="dcterms:W3CDTF">2013-06-06T16:54:30Z</dcterms:modified>
  <cp:revision>27</cp:revision>
  <dc:subject/>
  <dc:title>Me llamo _______      Clase 7IM La fecha es el 2 de mayo del 2012</dc:title>
</cp:coreProperties>
</file>